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4480"/>
            <a:ext cx="5381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F265-82A5-4102-99D6-FB948816F7C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3AF7-A952-4AEA-8F92-04CBEB92FCE6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0C3D-6847-41D2-BEAB-983465531E85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E946-EE40-4947-8C68-E2EB67039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5815-0A0C-4065-AACA-286A8C0C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0E19-AC8B-478A-A94B-DB9E6B950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7331-90CF-4250-9166-8C40458D2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4D18-11E2-4FC3-A19D-E627889A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1105-6D83-40B5-A429-63FC55F5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18F3-800F-430F-88FC-2DD0440C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7FD1-99C9-4428-9D44-D97B3A0C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B7C2-6685-446E-81E1-280CAAE3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8101-A28A-447E-A951-21A4A318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6DBB-E4AF-410C-826C-5DD57CCA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691F-AEA4-4878-8496-BDC8697E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019A-14C2-47F2-A436-A628D5FC3F1A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9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60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61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73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5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cp:lastPrinted>2018-05-23T01:14:21Z</cp:lastPrinted>
  <dcterms:modified xsi:type="dcterms:W3CDTF">2018-06-08T09:12:13Z</dcterms:modified>
  <cp:revision>254</cp:revision>
  <dc:subject/>
  <dc:title>슬라이드 1</dc:title>
</cp:coreProperties>
</file>