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952560" y="685440"/>
            <a:ext cx="495288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4BAFB-844D-408C-89FA-C4821EEBEC70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CA3A1-F233-4A9C-ABB7-230E4FC8D453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17C9D-B027-44FD-BEE2-BDD9EC81E5E2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7A2E3-6AFA-452A-803E-994E690EF094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43D4A-6842-4AF4-8B27-F0C76088E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C8502-FC16-487F-AA19-A0F320046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2ECC2-7261-402F-8E4C-933E48EBA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2D8B8-DBBB-4B5C-8BD3-422D49903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2A862-C5E4-4BFA-8D4F-4FBB0D4DB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CC473-6513-42ED-9137-6F10905D5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33F9D-9F9D-49F0-AC28-F2D068FD5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E351E-296A-444D-A738-42F131F91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8482D-30F7-4337-8679-D4EF025FF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AE340-C8F2-430B-B4BB-E568EC800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2D7F3-9F17-4F1A-974D-975DAA740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9F66B-86CC-4047-A9C8-5736B16AA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8BFB7-8E2C-4848-9BED-94A62DDB3C29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7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1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직사각형 33"/>
          <p:cNvSpPr/>
          <p:nvPr/>
        </p:nvSpPr>
        <p:spPr>
          <a:xfrm>
            <a:off x="7920000" y="3386160"/>
            <a:ext cx="1352520" cy="252252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Text Box 8"/>
          <p:cNvSpPr/>
          <p:nvPr/>
        </p:nvSpPr>
        <p:spPr>
          <a:xfrm>
            <a:off x="169920" y="996840"/>
            <a:ext cx="4533840" cy="55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규   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1000*820*2100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디자인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책장 겸용 책상으로 두 가지 제품의 장점을 적용한 제품임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최대한의 수납공간을 많이 적용하려고 노력함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책상 측판은 상판을 견고하게 잡아주는 역할을 하며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곡선으로 디자인하여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지루하지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않도록 설계됨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기   능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5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책장에 상판과 측판을 세우는 구조로 하부 수납가구를 별도로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설치할 필요가 없어 경제적임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5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책상 위 작은도어를 적용하여 개인사물함을 보관할 수 있도록 시건장치 부착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5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책상 배선을 위해 설계되어 개폐가 용이한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4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구 콘센트와 배선 홀 배치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0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소   재</a:t>
            </a:r>
            <a:r>
              <a:rPr b="0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몸통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도어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선반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18t PB +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양면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LPM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+ 1.2t ABS EDGE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책상상판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23t PB +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양면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LPM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+ 1.2t ABS EDGE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콘센트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콘센트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4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구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(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퍼맥스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FP-PW202)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책상상판 보강 브라켓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2T STEEL +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도장마감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0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컬러칩</a:t>
            </a:r>
            <a:r>
              <a:rPr b="0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44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ALT2 </a:t>
            </a:r>
            <a:r>
              <a:rPr b="1" lang="en-US" sz="10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_ DESK &lt;DSD3012-</a:t>
            </a:r>
            <a:r>
              <a:rPr b="1" lang="ko-KR" sz="10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책상</a:t>
            </a:r>
            <a:r>
              <a:rPr b="1" lang="en-US" sz="10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0" name="그림 10" descr="color.jpg"/>
          <p:cNvPicPr/>
          <p:nvPr/>
        </p:nvPicPr>
        <p:blipFill>
          <a:blip r:embed="rId1"/>
          <a:stretch/>
        </p:blipFill>
        <p:spPr>
          <a:xfrm>
            <a:off x="284040" y="5911920"/>
            <a:ext cx="1729080" cy="368280"/>
          </a:xfrm>
          <a:prstGeom prst="rect">
            <a:avLst/>
          </a:prstGeom>
          <a:ln w="0">
            <a:noFill/>
          </a:ln>
        </p:spPr>
      </p:pic>
      <p:sp>
        <p:nvSpPr>
          <p:cNvPr id="91" name="Text Box 51"/>
          <p:cNvSpPr/>
          <p:nvPr/>
        </p:nvSpPr>
        <p:spPr>
          <a:xfrm>
            <a:off x="1981080" y="6143760"/>
            <a:ext cx="68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PE(H111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직선 연결선 43"/>
          <p:cNvSpPr/>
          <p:nvPr/>
        </p:nvSpPr>
        <p:spPr>
          <a:xfrm>
            <a:off x="219240" y="42228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직사각형 45"/>
          <p:cNvSpPr/>
          <p:nvPr/>
        </p:nvSpPr>
        <p:spPr>
          <a:xfrm>
            <a:off x="219240" y="6465960"/>
            <a:ext cx="41875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※</a:t>
            </a:r>
            <a:r>
              <a:rPr b="0" lang="ko-KR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상기 자재 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&amp; HARDWARE</a:t>
            </a:r>
            <a:r>
              <a:rPr b="0" lang="ko-KR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는 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K.S</a:t>
            </a:r>
            <a:r>
              <a:rPr b="0" lang="ko-KR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품질 기준 또는 동일한 품질에 합격한 제품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위에 기재된 내용은 지속적인 제품의 연구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,</a:t>
            </a:r>
            <a:r>
              <a:rPr b="0" lang="ko-KR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개발 보완으로 인해 변경될 수 있습니다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직선 연결선 46"/>
          <p:cNvSpPr/>
          <p:nvPr/>
        </p:nvSpPr>
        <p:spPr>
          <a:xfrm>
            <a:off x="219240" y="831960"/>
            <a:ext cx="41875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5" name="그림 49" descr=""/>
          <p:cNvPicPr/>
          <p:nvPr/>
        </p:nvPicPr>
        <p:blipFill>
          <a:blip r:embed="rId2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96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7" name="그림 42" descr=""/>
          <p:cNvPicPr/>
          <p:nvPr/>
        </p:nvPicPr>
        <p:blipFill>
          <a:blip r:embed="rId3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pic>
        <p:nvPicPr>
          <p:cNvPr id="98" name="그림 1" descr=""/>
          <p:cNvPicPr/>
          <p:nvPr/>
        </p:nvPicPr>
        <p:blipFill>
          <a:blip r:embed="rId4"/>
          <a:srcRect l="33175" t="0" r="33655" b="0"/>
          <a:stretch/>
        </p:blipFill>
        <p:spPr>
          <a:xfrm>
            <a:off x="4924440" y="1181160"/>
            <a:ext cx="2468520" cy="4962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9" descr="D:\문서관리폴더-리바트.법인운영\부서문서함-문승\B.네오스영업지원\A.제안자료\02.대리점현장\2015\6월\0609-아주대학교 화홍관 기숙사(김현종GJ)\참고자료\image_2.jpg"/>
          <p:cNvPicPr/>
          <p:nvPr/>
        </p:nvPicPr>
        <p:blipFill>
          <a:blip r:embed="rId5"/>
          <a:stretch/>
        </p:blipFill>
        <p:spPr>
          <a:xfrm>
            <a:off x="7967520" y="4925880"/>
            <a:ext cx="1252800" cy="9385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0" descr="D:\문서관리폴더-리바트.법인운영\부서문서함-문승\B.네오스영업지원\A.제안자료\02.대리점현장\2015\6월\0609-아주대학교 화홍관 기숙사(김현종GJ)\참고자료\image_4.jpg"/>
          <p:cNvPicPr/>
          <p:nvPr/>
        </p:nvPicPr>
        <p:blipFill>
          <a:blip r:embed="rId6"/>
          <a:stretch/>
        </p:blipFill>
        <p:spPr>
          <a:xfrm>
            <a:off x="7967520" y="3768840"/>
            <a:ext cx="1252800" cy="936360"/>
          </a:xfrm>
          <a:prstGeom prst="rect">
            <a:avLst/>
          </a:prstGeom>
          <a:ln w="1440">
            <a:solidFill>
              <a:srgbClr val="ffffff"/>
            </a:solidFill>
            <a:miter/>
          </a:ln>
        </p:spPr>
      </p:pic>
      <p:sp>
        <p:nvSpPr>
          <p:cNvPr id="101" name="타원 24"/>
          <p:cNvSpPr/>
          <p:nvPr/>
        </p:nvSpPr>
        <p:spPr>
          <a:xfrm>
            <a:off x="6954840" y="5297400"/>
            <a:ext cx="260280" cy="260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02" name="그룹 31"/>
          <p:cNvGrpSpPr/>
          <p:nvPr/>
        </p:nvGrpSpPr>
        <p:grpSpPr>
          <a:xfrm>
            <a:off x="7085160" y="4812840"/>
            <a:ext cx="820440" cy="484200"/>
            <a:chOff x="7085160" y="4812840"/>
            <a:chExt cx="820440" cy="484200"/>
          </a:xfrm>
        </p:grpSpPr>
        <p:sp>
          <p:nvSpPr>
            <p:cNvPr id="103" name="직선 연결선 26"/>
            <p:cNvSpPr/>
            <p:nvPr/>
          </p:nvSpPr>
          <p:spPr>
            <a:xfrm flipV="1">
              <a:off x="7085160" y="4812840"/>
              <a:ext cx="10800" cy="484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직선 연결선 27"/>
            <p:cNvSpPr/>
            <p:nvPr/>
          </p:nvSpPr>
          <p:spPr>
            <a:xfrm>
              <a:off x="7085160" y="4819320"/>
              <a:ext cx="8204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05" name="Text Box 8"/>
          <p:cNvSpPr/>
          <p:nvPr/>
        </p:nvSpPr>
        <p:spPr>
          <a:xfrm>
            <a:off x="7920000" y="3447360"/>
            <a:ext cx="135252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spAutoFit/>
          </a:bodyPr>
          <a:p>
            <a:pPr algn="ctr"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철재 고정 브라켓 사용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06" name="그룹 31"/>
          <p:cNvGrpSpPr/>
          <p:nvPr/>
        </p:nvGrpSpPr>
        <p:grpSpPr>
          <a:xfrm>
            <a:off x="7085160" y="3723840"/>
            <a:ext cx="820440" cy="327240"/>
            <a:chOff x="7085160" y="3723840"/>
            <a:chExt cx="820440" cy="327240"/>
          </a:xfrm>
        </p:grpSpPr>
        <p:sp>
          <p:nvSpPr>
            <p:cNvPr id="107" name="직선 연결선 30"/>
            <p:cNvSpPr/>
            <p:nvPr/>
          </p:nvSpPr>
          <p:spPr>
            <a:xfrm flipV="1">
              <a:off x="7095960" y="3723840"/>
              <a:ext cx="0" cy="3272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8" name="직선 연결선 31"/>
            <p:cNvSpPr/>
            <p:nvPr/>
          </p:nvSpPr>
          <p:spPr>
            <a:xfrm>
              <a:off x="7085160" y="3730320"/>
              <a:ext cx="8204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09" name="타원 32"/>
          <p:cNvSpPr/>
          <p:nvPr/>
        </p:nvSpPr>
        <p:spPr>
          <a:xfrm>
            <a:off x="6954840" y="4051440"/>
            <a:ext cx="260280" cy="260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10" name="그룹 35"/>
          <p:cNvGrpSpPr/>
          <p:nvPr/>
        </p:nvGrpSpPr>
        <p:grpSpPr>
          <a:xfrm>
            <a:off x="5371200" y="-2311560"/>
            <a:ext cx="5619240" cy="1538280"/>
            <a:chOff x="5371200" y="-2311560"/>
            <a:chExt cx="5619240" cy="1538280"/>
          </a:xfrm>
        </p:grpSpPr>
        <p:sp>
          <p:nvSpPr>
            <p:cNvPr id="111" name="TextBox 54"/>
            <p:cNvSpPr/>
            <p:nvPr/>
          </p:nvSpPr>
          <p:spPr>
            <a:xfrm>
              <a:off x="5371200" y="-2311560"/>
              <a:ext cx="1468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62626"/>
                  </a:solidFill>
                  <a:latin typeface="Arita Sans Medium"/>
                </a:rPr>
                <a:t>FUNCTION</a:t>
              </a:r>
              <a:r>
                <a:rPr b="0" lang="en-US" sz="1400" spc="-1" strike="noStrike">
                  <a:solidFill>
                    <a:srgbClr val="262626"/>
                  </a:solidFill>
                  <a:latin typeface="나눔고딕"/>
                  <a:ea typeface="나눔고딕"/>
                </a:rPr>
                <a:t>_ </a:t>
              </a:r>
              <a:r>
                <a:rPr b="0" lang="ko-KR" sz="1400" spc="-1" strike="noStrike">
                  <a:solidFill>
                    <a:srgbClr val="262626"/>
                  </a:solidFill>
                  <a:latin typeface="나눔고딕"/>
                  <a:ea typeface="나눔고딕"/>
                </a:rPr>
                <a:t>기능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2" name="직사각형 55"/>
            <p:cNvSpPr/>
            <p:nvPr/>
          </p:nvSpPr>
          <p:spPr>
            <a:xfrm>
              <a:off x="5499000" y="-2006640"/>
              <a:ext cx="5491440" cy="12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5000"/>
                </a:lnSpc>
                <a:buClr>
                  <a:srgbClr val="595959"/>
                </a:buClr>
                <a:buFont typeface="맑은 고딕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595959"/>
                  </a:solidFill>
                  <a:latin typeface="맑은 고딕"/>
                </a:rPr>
                <a:t> </a:t>
              </a:r>
              <a:r>
                <a:rPr b="0" lang="ko-KR" sz="1200" spc="-1" strike="noStrike">
                  <a:solidFill>
                    <a:srgbClr val="595959"/>
                  </a:solidFill>
                  <a:latin typeface="맑은 고딕"/>
                </a:rPr>
                <a:t>책장에 상판과 측판을 세우는 구조로 하부 수납가구를 별도로 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595959"/>
                  </a:solidFill>
                  <a:latin typeface="맑은 고딕"/>
                </a:rPr>
                <a:t>  </a:t>
              </a:r>
              <a:r>
                <a:rPr b="0" lang="ko-KR" sz="1200" spc="-1" strike="noStrike">
                  <a:solidFill>
                    <a:srgbClr val="595959"/>
                  </a:solidFill>
                  <a:latin typeface="맑은 고딕"/>
                </a:rPr>
                <a:t>설치할 필요가 없어 경제적임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25000"/>
                </a:lnSpc>
                <a:buClr>
                  <a:srgbClr val="595959"/>
                </a:buClr>
                <a:buFont typeface="맑은 고딕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595959"/>
                  </a:solidFill>
                  <a:latin typeface="맑은 고딕"/>
                </a:rPr>
                <a:t> </a:t>
              </a:r>
              <a:r>
                <a:rPr b="0" lang="ko-KR" sz="1200" spc="-1" strike="noStrike">
                  <a:solidFill>
                    <a:srgbClr val="595959"/>
                  </a:solidFill>
                  <a:latin typeface="맑은 고딕"/>
                </a:rPr>
                <a:t>책상 배선을 위해 설계되어 개폐가 용이한 </a:t>
              </a:r>
              <a:r>
                <a:rPr b="0" lang="en-US" sz="1200" spc="-1" strike="noStrike">
                  <a:solidFill>
                    <a:srgbClr val="595959"/>
                  </a:solidFill>
                  <a:latin typeface="맑은 고딕"/>
                </a:rPr>
                <a:t>4</a:t>
              </a:r>
              <a:r>
                <a:rPr b="0" lang="ko-KR" sz="1200" spc="-1" strike="noStrike">
                  <a:solidFill>
                    <a:srgbClr val="595959"/>
                  </a:solidFill>
                  <a:latin typeface="맑은 고딕"/>
                </a:rPr>
                <a:t>구 콘센트와 배선 홀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25000"/>
                </a:lnSpc>
                <a:buClr>
                  <a:srgbClr val="595959"/>
                </a:buClr>
                <a:buFont typeface="맑은 고딕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595959"/>
                  </a:solidFill>
                  <a:latin typeface="맑은 고딕"/>
                </a:rPr>
                <a:t> </a:t>
              </a:r>
              <a:r>
                <a:rPr b="0" lang="ko-KR" sz="1200" spc="-1" strike="noStrike">
                  <a:solidFill>
                    <a:srgbClr val="595959"/>
                  </a:solidFill>
                  <a:latin typeface="맑은 고딕"/>
                </a:rPr>
                <a:t>책상에 적용된 조용 등 으로 학습 집중도 향상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25000"/>
                </a:lnSpc>
                <a:buClr>
                  <a:srgbClr val="595959"/>
                </a:buClr>
                <a:buFont typeface="맑은 고딕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595959"/>
                  </a:solidFill>
                  <a:latin typeface="맑은 고딕"/>
                </a:rPr>
                <a:t> </a:t>
              </a:r>
              <a:r>
                <a:rPr b="0" lang="ko-KR" sz="1200" spc="-1" strike="noStrike">
                  <a:solidFill>
                    <a:srgbClr val="595959"/>
                  </a:solidFill>
                  <a:latin typeface="맑은 고딕"/>
                </a:rPr>
                <a:t>미니서랍</a:t>
              </a:r>
              <a:r>
                <a:rPr b="0" lang="en-US" sz="1200" spc="-1" strike="noStrike">
                  <a:solidFill>
                    <a:srgbClr val="595959"/>
                  </a:solidFill>
                  <a:latin typeface="맑은 고딕"/>
                </a:rPr>
                <a:t>, </a:t>
              </a:r>
              <a:r>
                <a:rPr b="0" lang="ko-KR" sz="1200" spc="-1" strike="noStrike">
                  <a:solidFill>
                    <a:srgbClr val="595959"/>
                  </a:solidFill>
                  <a:latin typeface="맑은 고딕"/>
                </a:rPr>
                <a:t>액세서리 걸이 등을 적용하여 사용자의 편리성을 강화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그림 49" descr=""/>
          <p:cNvPicPr/>
          <p:nvPr/>
        </p:nvPicPr>
        <p:blipFill>
          <a:blip r:embed="rId1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114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5" name="그림 42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sp>
        <p:nvSpPr>
          <p:cNvPr id="116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Text Box 3"/>
          <p:cNvSpPr/>
          <p:nvPr/>
        </p:nvSpPr>
        <p:spPr>
          <a:xfrm>
            <a:off x="7392960" y="369900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굴림"/>
              </a:rPr>
              <a:t>MA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8" name="그림 1" descr=""/>
          <p:cNvPicPr/>
          <p:nvPr/>
        </p:nvPicPr>
        <p:blipFill>
          <a:blip r:embed="rId3"/>
          <a:srcRect l="35144" t="1273" r="43808" b="11682"/>
          <a:stretch/>
        </p:blipFill>
        <p:spPr>
          <a:xfrm>
            <a:off x="6357960" y="1241280"/>
            <a:ext cx="1566720" cy="4319640"/>
          </a:xfrm>
          <a:prstGeom prst="rect">
            <a:avLst/>
          </a:prstGeom>
          <a:ln w="0">
            <a:noFill/>
          </a:ln>
        </p:spPr>
      </p:pic>
      <p:sp>
        <p:nvSpPr>
          <p:cNvPr id="119" name="직사각형 14"/>
          <p:cNvSpPr/>
          <p:nvPr/>
        </p:nvSpPr>
        <p:spPr>
          <a:xfrm flipH="1">
            <a:off x="4406760" y="422280"/>
            <a:ext cx="131760" cy="643572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Text Box 8"/>
          <p:cNvSpPr/>
          <p:nvPr/>
        </p:nvSpPr>
        <p:spPr>
          <a:xfrm>
            <a:off x="169920" y="996840"/>
            <a:ext cx="4533840" cy="53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규   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600*600*2200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디자인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좁은 기숙사 공간을 효율적으로 사용할 수 있도록 디자인한 제품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나무 무늬결 목재의 자연스러움이 돋보임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정리 및 수납 공간을 고려한 실용적인 디자인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다양한 레이아웃 구성이 가능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환경 친화적 소재 사용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기   능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선반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옷걸이 봉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 2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단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STEEL BASKET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으로 구성된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1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인용 옷장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하부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STEEL BASKET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은 서랍형태로 되어 있어 편리하게 사용할 수 있음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STEEL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소재 옷걸이 봉은 내구성이 강하며 견고함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레벨러 기능의 발통으로 수평 조절 가능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소   재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표면재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지정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LPM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원자재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PB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EDGE : ABS EDGE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컬러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직사각형 17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공통</a:t>
            </a:r>
            <a:r>
              <a:rPr b="1" lang="en-US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_ LOCKER &lt;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옷장 겸 락커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2" name="그림 10" descr="color.jpg"/>
          <p:cNvPicPr/>
          <p:nvPr/>
        </p:nvPicPr>
        <p:blipFill>
          <a:blip r:embed="rId4"/>
          <a:stretch/>
        </p:blipFill>
        <p:spPr>
          <a:xfrm>
            <a:off x="284040" y="5492880"/>
            <a:ext cx="1729080" cy="36828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51"/>
          <p:cNvSpPr/>
          <p:nvPr/>
        </p:nvSpPr>
        <p:spPr>
          <a:xfrm>
            <a:off x="1981080" y="5724360"/>
            <a:ext cx="68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PE(H111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직선 연결선 21"/>
          <p:cNvSpPr/>
          <p:nvPr/>
        </p:nvSpPr>
        <p:spPr>
          <a:xfrm>
            <a:off x="219240" y="42228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직사각형 22"/>
          <p:cNvSpPr/>
          <p:nvPr/>
        </p:nvSpPr>
        <p:spPr>
          <a:xfrm>
            <a:off x="219240" y="6465960"/>
            <a:ext cx="41875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※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상기 자재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amp; HARDWARE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는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K.S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품질 기준 또는 동일한 품질에 합격한 제품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위에 기재된 내용은 지속적인 제품의 연구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개발 보완으로 인해 변경될 수 있습니다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직선 연결선 23"/>
          <p:cNvSpPr/>
          <p:nvPr/>
        </p:nvSpPr>
        <p:spPr>
          <a:xfrm>
            <a:off x="219240" y="831960"/>
            <a:ext cx="41875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그림 49" descr=""/>
          <p:cNvPicPr/>
          <p:nvPr/>
        </p:nvPicPr>
        <p:blipFill>
          <a:blip r:embed="rId1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128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9" name="그림 42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sp>
        <p:nvSpPr>
          <p:cNvPr id="130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7392960" y="369900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굴림"/>
              </a:rPr>
              <a:t>MA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직사각형 14"/>
          <p:cNvSpPr/>
          <p:nvPr/>
        </p:nvSpPr>
        <p:spPr>
          <a:xfrm flipH="1">
            <a:off x="4406760" y="422280"/>
            <a:ext cx="131760" cy="643572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Text Box 8"/>
          <p:cNvSpPr/>
          <p:nvPr/>
        </p:nvSpPr>
        <p:spPr>
          <a:xfrm>
            <a:off x="169920" y="996840"/>
            <a:ext cx="4533840" cy="53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규   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600*600*2200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디자인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좁은 기숙사 공간을 효율적으로 사용할 수 있도록 디자인한 제품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나무 무늬결 목재의 자연스러움이 돋보임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정리 및 수납 공간을 고려한 실용적인 디자인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다양한 레이아웃 구성이 가능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환경 친화적 소재 사용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기   능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선반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옷걸이 봉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 2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단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STEEL BASKET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으로 구성된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1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인용 옷장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하부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STEEL BASKET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은 서랍형태로 되어 있어 편리하게 사용할 수 있음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STEEL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소재 옷걸이 봉은 내구성이 강하며 견고함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레벨러 기능의 발통으로 수평 조절 가능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소   재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표면재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지정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LPM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원자재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PB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EDGE : ABS EDGE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컬러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직사각형 17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공통</a:t>
            </a:r>
            <a:r>
              <a:rPr b="1" lang="en-US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_ LOCKER &lt;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옷장 겸 락커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5" name="그림 10" descr="color.jpg"/>
          <p:cNvPicPr/>
          <p:nvPr/>
        </p:nvPicPr>
        <p:blipFill>
          <a:blip r:embed="rId3"/>
          <a:stretch/>
        </p:blipFill>
        <p:spPr>
          <a:xfrm>
            <a:off x="284040" y="5492880"/>
            <a:ext cx="1729080" cy="36828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51"/>
          <p:cNvSpPr/>
          <p:nvPr/>
        </p:nvSpPr>
        <p:spPr>
          <a:xfrm>
            <a:off x="1981080" y="5724360"/>
            <a:ext cx="68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PE(H111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선 연결선 21"/>
          <p:cNvSpPr/>
          <p:nvPr/>
        </p:nvSpPr>
        <p:spPr>
          <a:xfrm>
            <a:off x="219240" y="42228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22"/>
          <p:cNvSpPr/>
          <p:nvPr/>
        </p:nvSpPr>
        <p:spPr>
          <a:xfrm>
            <a:off x="219240" y="6465960"/>
            <a:ext cx="41875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※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상기 자재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amp; HARDWARE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는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K.S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품질 기준 또는 동일한 품질에 합격한 제품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위에 기재된 내용은 지속적인 제품의 연구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개발 보완으로 인해 변경될 수 있습니다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선 연결선 23"/>
          <p:cNvSpPr/>
          <p:nvPr/>
        </p:nvSpPr>
        <p:spPr>
          <a:xfrm>
            <a:off x="219240" y="831960"/>
            <a:ext cx="41875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0" name="Picture 1" descr="그림2"/>
          <p:cNvPicPr/>
          <p:nvPr/>
        </p:nvPicPr>
        <p:blipFill>
          <a:blip r:embed="rId4"/>
          <a:srcRect l="11570" t="7395" r="11446" b="2026"/>
          <a:stretch/>
        </p:blipFill>
        <p:spPr>
          <a:xfrm>
            <a:off x="7180200" y="1380960"/>
            <a:ext cx="2238480" cy="4781880"/>
          </a:xfrm>
          <a:prstGeom prst="rect">
            <a:avLst/>
          </a:prstGeom>
          <a:ln w="0">
            <a:noFill/>
          </a:ln>
        </p:spPr>
      </p:pic>
      <p:pic>
        <p:nvPicPr>
          <p:cNvPr id="141" name="그림 1" descr=""/>
          <p:cNvPicPr/>
          <p:nvPr/>
        </p:nvPicPr>
        <p:blipFill>
          <a:blip r:embed="rId5"/>
          <a:srcRect l="40546" t="5535" r="33847" b="4821"/>
          <a:stretch/>
        </p:blipFill>
        <p:spPr>
          <a:xfrm>
            <a:off x="5283360" y="1441440"/>
            <a:ext cx="1706400" cy="47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5T23:00:37Z</dcterms:created>
  <dc:creator>LIVART</dc:creator>
  <dc:description/>
  <dc:language>en-US</dc:language>
  <cp:lastModifiedBy>ajou</cp:lastModifiedBy>
  <dcterms:modified xsi:type="dcterms:W3CDTF">2016-12-14T06:02:05Z</dcterms:modified>
  <cp:revision>231</cp:revision>
  <dc:subject/>
  <dc:title>슬라이드 1</dc:title>
</cp:coreProperties>
</file>