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CA44-43FC-477A-A86E-9C360DA3DA7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E641-3F31-4A6A-B834-C71F2387FF2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31B0-7980-4242-B4B4-369CF531D60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34CF-A2BB-4338-9FEE-D9D10C621B7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ADFB-1D62-4F3D-AFE1-5852304B17F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18C3-B9DD-4163-85CB-1F6262209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8F24-F859-4C7E-B42B-AC51889F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5567-8029-4B21-A617-BEB974E82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E7B6-7E98-4305-AC88-1B215F257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EBA3-2FC3-42E1-9EBC-41D53A7C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120B-4CEF-4F7D-9BD2-1C86E03C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B044-E75C-4459-851E-4E6F1F06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719C-2CBF-4692-BBBF-D36CDA4E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5B4F-BC27-4DE4-8676-239B6518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52B4-08C8-4F65-B661-EE2FED30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2C27-5DB9-4E55-9E00-41C92836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8F56-D2D1-4EA1-B583-292D5C52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AA0D-064A-4929-A901-CAD9F43D12B8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pic>
        <p:nvPicPr>
          <p:cNvPr id="56" name="그림 10" descr="color.jpg"/>
          <p:cNvPicPr/>
          <p:nvPr/>
        </p:nvPicPr>
        <p:blipFill>
          <a:blip r:embed="rId4"/>
          <a:stretch/>
        </p:blipFill>
        <p:spPr>
          <a:xfrm>
            <a:off x="284040" y="561960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32"/>
          <p:cNvSpPr/>
          <p:nvPr/>
        </p:nvSpPr>
        <p:spPr>
          <a:xfrm>
            <a:off x="4589640" y="422280"/>
            <a:ext cx="18072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69920" y="996840"/>
            <a:ext cx="453384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435*270*1308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용 철재 사다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/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된 철재 사다리 사용으로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 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BODY : 15x30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5x35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  상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5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7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Picture 12" descr="\\s098\2009자료관리\02.정제품 사진\교육용\기숙사가구\3000G\단품\DIL3004.jpg"/>
          <p:cNvPicPr/>
          <p:nvPr/>
        </p:nvPicPr>
        <p:blipFill>
          <a:blip r:embed="rId3"/>
          <a:srcRect l="13764" t="1938" r="17245" b="139"/>
          <a:stretch/>
        </p:blipFill>
        <p:spPr>
          <a:xfrm>
            <a:off x="6135840" y="1160640"/>
            <a:ext cx="1915920" cy="479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4"/>
          <a:stretch/>
        </p:blipFill>
        <p:spPr>
          <a:xfrm>
            <a:off x="282600" y="4410000"/>
            <a:ext cx="558720" cy="558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71" name="직선 연결선 35"/>
          <p:cNvSpPr/>
          <p:nvPr/>
        </p:nvSpPr>
        <p:spPr>
          <a:xfrm>
            <a:off x="169920" y="48096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직사각형 36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ADDER &lt;DIL3004-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 사다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직선 연결선 38"/>
          <p:cNvSpPr/>
          <p:nvPr/>
        </p:nvSpPr>
        <p:spPr>
          <a:xfrm>
            <a:off x="90360" y="831960"/>
            <a:ext cx="41878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4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51"/>
          <p:cNvSpPr/>
          <p:nvPr/>
        </p:nvSpPr>
        <p:spPr>
          <a:xfrm>
            <a:off x="814320" y="4710240"/>
            <a:ext cx="20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한국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AID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IN UP DESIGN AWARDS 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7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8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88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2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94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3:14Z</dcterms:modified>
  <cp:revision>250</cp:revision>
  <dc:subject/>
  <dc:title>슬라이드 1</dc:title>
</cp:coreProperties>
</file>